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9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B0BC-D644-44B2-B7FE-6AAA5D2BFE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01E6-5EA7-42ED-9C2F-06ADADCF53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7463-40C5-4A2A-86D8-0CEF3D9A53B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16D4-3B18-4E54-9BCE-B389595F015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2724-F1B9-41AE-B629-48C1671607D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FAE2-EE3D-4A57-8CC2-5D2A7F0FEB2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31D2-0F8F-4232-B59D-DC0CCD552CB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88FC-42E6-44A7-9BC2-0EF113C2046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9D3B-6A8D-4EE4-BA79-603DEADE86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10C2-F590-474A-94AD-894971ED3AD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6854-C1F9-41D1-B349-1ADDFBF13D3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A9EC-01F8-4A17-8717-8F488157F7B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30B2-F35B-44ED-A0DA-ECB7E628BE6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DE2A-AD79-418C-AE95-8C6FB09EC0F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5BFD-0317-4887-BA27-8F56C9B0639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55E0-804B-4E67-AFD6-E9652AF3180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718C-C930-4EF8-A6FA-A46388B9CB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8339-9D7B-497E-8D7A-DDC7CA25E6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1268-7638-4BEA-A237-9517D2114B4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7400-89DE-4537-8BDA-A890F8A4E32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2D6-C71B-4D65-A4A3-69A7B022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725-E856-4643-BD18-DB060FD3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ECE-9762-4411-9639-1A2B7A87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8A2-D9FD-47B3-B438-6359291F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980A-3524-40FC-A964-2452401B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C4A1-961D-47E9-8404-077B96C6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8D8C-572D-4A57-AB20-D147731B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2E47-E210-4912-8610-EE25DD5E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6CF7-75EB-4D0F-800F-64484E76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180A-91B2-45D1-A34E-A59A00AF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932D-1137-4E05-9CA8-CB9B3D93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285-00C2-46D8-91CE-AE7B617B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42A5-4DCA-4BF7-85C7-3E611C57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0349-4E16-478F-95C8-2668FFD8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86B6-975A-4F20-A3BC-11E3E030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49EA-48F1-4C74-AA81-2AB6BC26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E93E-ED0A-4D8E-B399-E24BD628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D9A81-2CED-47F8-B607-87A92C26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9BBBD-D561-4F33-A6B1-11EDC95E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4DEBD-0870-4DB5-BBB4-906A9116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268C0-5DB3-482A-A259-B640475C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0A7A6-5484-40DE-B5A0-41209EA8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65D-3314-478E-84E2-90127825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A687D-01B8-4720-81E9-DD7250C3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D4B01-D237-4D40-8E75-90AF1C11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8D2E-0388-489F-A9A2-7939C03D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013F7-493F-4D53-9E25-DD967CAB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C440-B340-4F19-B142-98213EB8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84D94-EBF7-438C-A8EB-D26866F6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5849-3D3B-43E1-B231-FFBEDB5B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7EFEC-0D01-4C4C-B3DB-13B37F84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DE0E7-1039-4256-B4C7-46ECA499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1D220-5617-4238-9427-C492C7A3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948-5746-4E53-9989-1E7F4859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26CE9-EDFF-4EFA-B8D9-48F4B44B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7A777-B11E-4744-923A-312A7286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AFE1E-F828-41B8-B49B-DA33811F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4081C-866C-44FB-B41C-657D4A76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FCEC8-1D27-416E-87FC-BAD8027D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30767-EB7C-4390-8F96-E1361F95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40822-46CA-4EDB-9890-64CA2A5E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303C4-29BF-4342-9820-8E92D27D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05256-24E5-4B32-8770-EA04C669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4964A-E4D1-4FE4-9B21-CB2AA627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F60-6B83-47ED-AD70-5E45A1D6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C64A2-AFEA-40C3-908C-74310D61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F934C-0ADD-4A8E-AA08-83B13744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10E5E-8857-480C-8592-B4DAB7FA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0913D-A935-429F-A73E-45FDCDAB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C72C1-147C-4F3F-AAD2-58F1C707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C1EA9-3C48-4E38-AABA-CF111D3C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DCDB2-28F8-408A-BE53-1199FCCF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813F3-82C3-4D39-9EA1-46B42730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E4D1D-E13E-4143-93AE-CFC2515C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E5825-9AC0-4BD7-B8CA-0D36E554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147-0498-466E-9789-437E8E2F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A8381-2A3B-4016-8211-57AF559F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5D669-E25C-412B-A02D-C96E1251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08F18-1EDB-4EC5-97F2-EBCBE240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9D9F1-484D-4B17-92FE-E68A82D9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5CF7E-9BC7-43BC-83C2-B2444DD3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B70CC-D4D5-439D-B9D1-20235F21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3A451-10AD-49C6-B618-93AB3DD8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ADE19-E73A-475C-96A5-B575802E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466A5-3805-4C3A-AA57-87F0BF85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9EFA9-4BA9-40CC-9D21-3F1B0EAC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8F9-A5BC-4B5C-8C19-0F97B58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CE7D1-56BE-4B35-B878-763C9862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AE100-8F15-4473-B66E-FBA58CF8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57322-3326-4FE6-8E8A-A5F88B1A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19705-9B10-4F51-BC53-6573DF15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98431-99FF-44B0-81A8-EBD5E382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EE5A6-3894-44A1-8E2A-7C48BD85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8BBFB-5936-47A7-AF68-06F221C3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DCC60-5D11-45E7-9933-124C29EE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93169-649D-4625-AB3B-93181520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D53AB-EA67-49AB-B031-78047CDE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CF6-4E21-40C5-8B29-86CA1921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88597-D8E0-4EEA-8834-ECCCC98A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7D3BB-85BF-4FB9-9E71-71B357E3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0DCC7-8A18-428F-8DDC-047B9B64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75EAD-179B-45D2-BE3F-607477BE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7AA86-630A-44EB-90D9-D615B1EF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4FF-4357-4CE4-BC0B-44C1D9E9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BF13-EC3E-487E-AF78-79F2B561344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88B0-7C44-4F6B-B6F0-5EE6D971B07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A701-C1D4-4C73-93AF-05477FD93E6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кутник з одним вирізаним округленим кут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кутний трикут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іліні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іліні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1665-3C72-44C3-AC24-78F5C882AC5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1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E00A-47FD-47F4-AF13-70377CD71FF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1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0F65-C636-42CF-B9B5-DD49AFA4B09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01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6FD3-D67B-41D4-8E9A-9126D1818A1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unitex.com.ua/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8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hyperlink" Target="http://www.unitex.com.ua/" TargetMode="External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8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ww.unitex.com.ua/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hyperlink" Target="http://www.unitex.com.ua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hyperlink" Target="http://www.unitex.com.ua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hyperlink" Target="http://www.unitex.com.ua/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hyperlink" Target="http://www.unitex.com.ua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738360" y="500040"/>
            <a:ext cx="7918200" cy="174312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3" descr=""/>
          <p:cNvPicPr/>
          <p:nvPr/>
        </p:nvPicPr>
        <p:blipFill>
          <a:blip r:embed="rId2"/>
          <a:stretch/>
        </p:blipFill>
        <p:spPr>
          <a:xfrm>
            <a:off x="493560" y="2651040"/>
            <a:ext cx="4443480" cy="32133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5" name="Рисунок 5" descr="u_logo copy.png"/>
          <p:cNvPicPr/>
          <p:nvPr/>
        </p:nvPicPr>
        <p:blipFill>
          <a:blip r:embed="rId4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9" descr="peopl.png"/>
          <p:cNvPicPr/>
          <p:nvPr/>
        </p:nvPicPr>
        <p:blipFill>
          <a:blip r:embed="rId5"/>
          <a:srcRect l="12295" t="8750" r="0" b="13751"/>
          <a:stretch/>
        </p:blipFill>
        <p:spPr>
          <a:xfrm>
            <a:off x="4714920" y="1928880"/>
            <a:ext cx="40766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4" descr=""/>
          <p:cNvPicPr/>
          <p:nvPr/>
        </p:nvPicPr>
        <p:blipFill>
          <a:blip r:embed="rId1"/>
          <a:stretch/>
        </p:blipFill>
        <p:spPr>
          <a:xfrm>
            <a:off x="396720" y="244440"/>
            <a:ext cx="8114040" cy="9986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5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3" name="Рисунок 5" descr="personal_card_rus.jpg"/>
          <p:cNvPicPr/>
          <p:nvPr/>
        </p:nvPicPr>
        <p:blipFill>
          <a:blip r:embed="rId3"/>
          <a:stretch/>
        </p:blipFill>
        <p:spPr>
          <a:xfrm>
            <a:off x="857160" y="1143000"/>
            <a:ext cx="7091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01760" y="457200"/>
            <a:ext cx="8467560" cy="21938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713880" y="1999800"/>
            <a:ext cx="8001000" cy="37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55680" indent="-184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матическое формирование  приказов и другой документаци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формировании распорядительной документации изменения по базе данных вносятся автоматическ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ся недопущение ошибок пользователем, через систему блокировки возможностей осуществления нелогических операций. Также система предупреждает пользователя о допущенных ошибках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6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500040" y="669960"/>
            <a:ext cx="8077320" cy="13111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857160" y="228600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тная кадровая документац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indent="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порядительная документац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indent="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равочно-информационная документац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indent="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четная документац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indent="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гая документац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0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365040" y="438120"/>
            <a:ext cx="8145720" cy="11415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713880" y="1500120"/>
            <a:ext cx="7643880" cy="450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55680" indent="-184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чная карточка сотрудника с описанием всех документов, что касаются данного сотрудник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, в котором ведутся остатки ежегодных и дополнительных отпуск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, в котором ведется учет стажа сотрудник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иси о награждении, аттестац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равка с места работ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 для учета специальности по диплом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 в котором ведется информация об обучении кадров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стки нетрудоспособно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, в котором ведется учет командировок сотрудни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точка учета ликвидаторов (пострадавших) аварии на ЧАЕС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4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324000" y="554040"/>
            <a:ext cx="8466120" cy="12384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800280" y="14997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приеме на работ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переведении на другую работ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б увольнении с работ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предоставлении отпус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б отзыве с отпус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совмещении должностей на одном предприят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работе в выходные дн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извольный приказ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б оглашении (снятии) выговор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продолжении (разрывании) трудового договор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едение штатных единиц в штатное расписан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ведение штатных единиц из штатного расписания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командировк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смене режима работ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направлении на обучен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установке (снятии) надбав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б изменении фамил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8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31840" y="450720"/>
            <a:ext cx="8558280" cy="15973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014480" y="2071800"/>
            <a:ext cx="5843520" cy="4000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правочник населенных пунктов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иды отпусков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Категории военных званий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став войск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оенные группы учета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руппы военных званий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ид переведения на другую работу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Классификатор профессий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правления специальностей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Категории персоналу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Типы принятия на работу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пециальности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2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353880" y="469800"/>
            <a:ext cx="8418600" cy="13953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14240" y="157176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17136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ч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и 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дны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чих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ч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 увольнениях сотрудник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ч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ости и трудоустройстве инвалид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ч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слен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трудник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енном составе и профессиональном обучен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ч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ении отпуск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ч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 использовании рабочего врем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6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281160" y="517680"/>
            <a:ext cx="8137440" cy="11350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728640" y="178596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66760" indent="-9540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татное расписани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говор о полной материальной ответственност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говор о коллективной материальной ответственност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достоверени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кумент структуры и штатной численност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0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4" descr=""/>
          <p:cNvPicPr/>
          <p:nvPr/>
        </p:nvPicPr>
        <p:blipFill>
          <a:blip r:embed="rId1"/>
          <a:stretch/>
        </p:blipFill>
        <p:spPr>
          <a:xfrm>
            <a:off x="255600" y="262080"/>
            <a:ext cx="8467560" cy="121284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6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5" name="Рисунок 5" descr="order_job_rus.jpg"/>
          <p:cNvPicPr/>
          <p:nvPr/>
        </p:nvPicPr>
        <p:blipFill>
          <a:blip r:embed="rId3"/>
          <a:stretch/>
        </p:blipFill>
        <p:spPr>
          <a:xfrm>
            <a:off x="2000160" y="1266840"/>
            <a:ext cx="54295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6" descr=""/>
          <p:cNvPicPr/>
          <p:nvPr/>
        </p:nvPicPr>
        <p:blipFill>
          <a:blip r:embed="rId1"/>
          <a:stretch/>
        </p:blipFill>
        <p:spPr>
          <a:xfrm>
            <a:off x="566640" y="420840"/>
            <a:ext cx="8064720" cy="14144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799920" y="1928880"/>
            <a:ext cx="7629480" cy="392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1440" indent="-17316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ланирование отпусков сотрудников предприятия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7316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ование  графиков отпусков по структурных подразделениях и по предприятию в целом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7316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втоматизация расчетов остатка отпускных дней, которые полагаются сотруднику по закону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7316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втоматическое формирование отчета по отпусках на дату запроса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7316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втоматическое отображение информации по предоставленным отпускам после проведения приказа «о предоставлении отпуска»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8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62080" y="407880"/>
            <a:ext cx="8656560" cy="18907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Ваш незаменимый помощник в управлении человеческими ресурсами на предприят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может контролировать документооборот и вести деловодств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ный продукт, который обеспечивает гибкие настройки под потребности каждого пользоват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9" name="Рисунок 6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-12600" y="311040"/>
            <a:ext cx="9186840" cy="15606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2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Рисунок 9" descr="leaves_rus.jpg"/>
          <p:cNvPicPr/>
          <p:nvPr/>
        </p:nvPicPr>
        <p:blipFill>
          <a:blip r:embed="rId3"/>
          <a:stretch/>
        </p:blipFill>
        <p:spPr>
          <a:xfrm>
            <a:off x="495360" y="1160640"/>
            <a:ext cx="815328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463680" y="493560"/>
            <a:ext cx="8119800" cy="16210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657360" y="2143080"/>
            <a:ext cx="7772400" cy="41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1440" indent="-1000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ние учета отработанного времени сотрудниками предприят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000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матизация при оформлении табеля отработанного времени по структурным подразделениям предприят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000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матизация формирования отчетности по использованию рабочего времен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000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ображение информации по учету отработанного времени по структурных подразделениях предприятия на определенный период, установленный по запросу пользовател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000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матизация заполнения полей табеля значениями выбранными пользователем и установленными на определенный период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7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-182520" y="554040"/>
            <a:ext cx="9691560" cy="18781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800280" y="2143080"/>
            <a:ext cx="7557840" cy="364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marL="180000" indent="-9684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ние базы данных по учебным центрам с которыми сотрудничает организац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80000" indent="-9684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равочная информация по учебным центрам (типы курсов, что проводятся в данном учебном центре, стоимость курсов и т.п.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80000" indent="-9684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 плана-графика обучения сотрудников предприят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80000" indent="-9684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ние учета проведенных учебных курсов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80000" indent="-9684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ние учета учебных курсов посещенных слушателем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80000" indent="-9684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сение в базу данных плана-графика проведения курсов учебных центров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80000" indent="-9684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отчетности по обучению персонал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1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512640" y="469800"/>
            <a:ext cx="8137800" cy="13226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714240" y="207144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рограммном обеспечении UHRM реализовано гибкую подсистему предоставления прав доступа пользователю через систему ролей. Распределение ролей осуществляется для ограничения доступа пользователей к подсистемам программы в соответствии с исполняемыми пользователем функциями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5" name="Рисунок 5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55440" y="781200"/>
            <a:ext cx="9442440" cy="2058840"/>
          </a:xfrm>
          <a:prstGeom prst="rect">
            <a:avLst/>
          </a:prstGeom>
          <a:ln w="0">
            <a:noFill/>
          </a:ln>
        </p:spPr>
      </p:pic>
      <p:pic>
        <p:nvPicPr>
          <p:cNvPr id="448" name="Місце для вмісту 3" descr=""/>
          <p:cNvPicPr/>
          <p:nvPr/>
        </p:nvPicPr>
        <p:blipFill>
          <a:blip r:embed="rId2"/>
          <a:stretch/>
        </p:blipFill>
        <p:spPr>
          <a:xfrm>
            <a:off x="262080" y="5327640"/>
            <a:ext cx="8540640" cy="12492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5" descr="logo1 copy.png"/>
          <p:cNvPicPr/>
          <p:nvPr/>
        </p:nvPicPr>
        <p:blipFill>
          <a:blip r:embed="rId3"/>
          <a:stretch/>
        </p:blipFill>
        <p:spPr>
          <a:xfrm>
            <a:off x="2384280" y="3403440"/>
            <a:ext cx="4330800" cy="17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341280" y="438120"/>
            <a:ext cx="8223120" cy="11286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571680" y="2286000"/>
            <a:ext cx="7772400" cy="258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Uniteh HRM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andard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назначена для предприятия, которое состоит из одного юридического лиц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Uniteh HRM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erprise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dition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назначена для предприятия, которое состои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из нескольких юридических лиц с единой системой управления и отчетност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3" name="Рисунок 6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334800" y="444600"/>
            <a:ext cx="8242560" cy="1128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585720" y="164304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, обработка и сохранение кадровой документаци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поиска документов (система фильтр-браузер-карточка) и выгрузка результатов выборки в Excel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статистических отчетов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ние штатного расписания в соответствии с иерархической структурой предприят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т использования рабочего времени – табельный учет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т и планирование отпусков на предприяти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т и планирование обучения на предприяти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стема закрытых для редактирования и открытых справочников;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дминистрирование прав доступу пользователей к подсистемам программы и информац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7" name="Рисунок 5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61" descr=""/>
          <p:cNvPicPr/>
          <p:nvPr/>
        </p:nvPicPr>
        <p:blipFill>
          <a:blip r:embed="rId1"/>
          <a:stretch/>
        </p:blipFill>
        <p:spPr>
          <a:xfrm>
            <a:off x="341280" y="365040"/>
            <a:ext cx="8223120" cy="1128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912600" y="1714320"/>
            <a:ext cx="7659720" cy="37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3241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грамма состоит из 6 взаимосвязанны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уле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Предпри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Карточ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Докумен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Отпус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Табел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Управление обучением персонал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1" name="Рисунок 7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9156960" cy="11592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32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Рисунок 34" descr="structure.png"/>
          <p:cNvPicPr/>
          <p:nvPr/>
        </p:nvPicPr>
        <p:blipFill>
          <a:blip r:embed="rId4"/>
          <a:stretch/>
        </p:blipFill>
        <p:spPr>
          <a:xfrm>
            <a:off x="0" y="1400040"/>
            <a:ext cx="91440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237960" y="420840"/>
            <a:ext cx="8253720" cy="14144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714240" y="1928520"/>
            <a:ext cx="7786800" cy="414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5400" algn="just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организационной структуры предприят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точки структурных подразделений;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точки должностей в соответствии с классификатором профессий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матизация ведения штатного расписания в соответствии с иерархической структурой предприят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справочной информации по свободных вакансиях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ибкость при формировании организационной структуры предприяти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приказов о внесении изменений в штатное расписание предприят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ведения кадрового резерва сотрудников, которые могут занимать определенную должность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9" name="Рисунок 6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523800" y="317520"/>
            <a:ext cx="8113680" cy="9986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Рисунок 6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6" descr="rus_pidpr.jpg"/>
          <p:cNvPicPr/>
          <p:nvPr/>
        </p:nvPicPr>
        <p:blipFill>
          <a:blip r:embed="rId3"/>
          <a:srcRect l="0" t="0" r="2799" b="0"/>
          <a:stretch/>
        </p:blipFill>
        <p:spPr>
          <a:xfrm>
            <a:off x="500040" y="1235160"/>
            <a:ext cx="814392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311040" y="463680"/>
            <a:ext cx="8637840" cy="14684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530280" y="185688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карточек персонифицированного учета сотрудников  предприятия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карточек инвалидов, пенсионеров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карточек ликвидаторов и пострадавших от аварии на ЧАЭС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карточек сотрудников работающих по договорам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 электронного варианта трудовых книжек сотрудников предприятия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матизация расчетов трудового стажа сотрудников предприятия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ображение информации по отношению назначений сотрудника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ция о командировках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 листков нетрудоспособности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сть оперативного поиска информации через систему фильтр-браузер и выгрузка результатов выборки в Excel;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Рисунок 4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9:20:01Z</dcterms:created>
  <dc:creator>PASHA</dc:creator>
  <dc:description/>
  <dc:language>en-US</dc:language>
  <cp:lastModifiedBy>Test</cp:lastModifiedBy>
  <dcterms:modified xsi:type="dcterms:W3CDTF">2009-07-03T10:41:39Z</dcterms:modified>
  <cp:revision>332</cp:revision>
  <dc:subject/>
  <dc:title>UNITEX HUMAN RESOURCE MANAGEMENT</dc:title>
</cp:coreProperties>
</file>